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8.png" ContentType="image/png"/>
  <Override PartName="/ppt/media/image13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EE82-C1B3-42D4-930F-45E9A441DF3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．对症处理：骨质疏松症早期症状不明显。病情发展到一定阶段时可见疼痛、身长缩短、驼背、骨折、呼吸功能下降等。开应用止痛药、物理疗法、矫形器、背带等方法，缓解临床症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．降低骨折发生率：康复护理最重要也是最终目标。减少患者接触外界作用力的可能，同时鼓励患者在能力范围内多运动，减少骨丢失。对已骨折的患者可采用牵引、固定、复位、或手术治疗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78F8-5170-47E1-9249-45FFA2E2348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尽早采用适当的康复运动疗法，并长期坚持。积极参加户外活动，多晒太阳能，促进钙的吸收。但运动量不宜过大，防止人为造成骨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饮食搭配要合理，及时补充钙剂和有利于钙吸收的食品或药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避免不良嗜好，如吸烟、酗酒、喝过多的碳酸饮料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保证充足睡眠，积极学习防止骨质疏松症发生及预防骨折的相关知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保持健康快乐的生活态度，乐观的面对每一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steoporosi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美音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,ɑstɪopə'rosɪs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英音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,ɔstiəupə'rəusis] 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steoporosis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的中文翻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以下结果由 译典通提供词典解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名词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骨质疏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中、老年人性激素分泌减少是导致骨质疏松的重要原因之一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随年龄的增长，钙调节激素的分泌失调致使骨代谢紊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老年人由于牙齿脱落及消化功能降低，骨纳差，进食少，多种营养缺乏，致使蛋白质、钙、磷、维生素及微量元素摄入不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与骨质疏松症相关的基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908F-F18F-4179-8654-47AA4F42F90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AB6A1-938E-4BE3-9D77-91D8510B60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6229D-7BA7-4B62-9D80-8AAF1097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3BEE7-1765-44B6-A7DB-E9C2241F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60CB3-69D0-4E12-82BD-159B6EF867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8B637-ED64-4ADD-A47D-009E396A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B86F1-396C-4014-8066-0A741935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5299D-155E-4925-91AE-59DB441A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C86DF-A8B4-44FC-B083-7F9C5CA1B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C4770-EB31-4AC2-9F0F-8C0137BFF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FBF18-718C-468F-A752-6F1C7995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2FB27-1074-441F-97AA-815B4D85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6D2EC-EA8E-4A59-8167-4F5C1EA9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5F2B-15AD-48D3-B15D-C3F89EABD48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" Target="slide19.xml"/><Relationship Id="rId8" Type="http://schemas.openxmlformats.org/officeDocument/2006/relationships/slide" Target="slide19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" Target="slide20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1.xml"/><Relationship Id="rId16" Type="http://schemas.openxmlformats.org/officeDocument/2006/relationships/slide" Target="slide21.xml"/><Relationship Id="rId17" Type="http://schemas.openxmlformats.org/officeDocument/2006/relationships/slide" Target="slide21.xml"/><Relationship Id="rId18" Type="http://schemas.openxmlformats.org/officeDocument/2006/relationships/slide" Target="slide21.xml"/><Relationship Id="rId19" Type="http://schemas.openxmlformats.org/officeDocument/2006/relationships/slide" Target="slide21.xml"/><Relationship Id="rId20" Type="http://schemas.openxmlformats.org/officeDocument/2006/relationships/slide" Target="slide21.xml"/><Relationship Id="rId21" Type="http://schemas.openxmlformats.org/officeDocument/2006/relationships/image" Target="../media/image5.png"/><Relationship Id="rId22" Type="http://schemas.openxmlformats.org/officeDocument/2006/relationships/slide" Target="slide2.xml"/><Relationship Id="rId23" Type="http://schemas.openxmlformats.org/officeDocument/2006/relationships/image" Target="../media/image6.gif"/><Relationship Id="rId2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5.png"/><Relationship Id="rId3" Type="http://schemas.openxmlformats.org/officeDocument/2006/relationships/slide" Target="slide36.xml"/><Relationship Id="rId4" Type="http://schemas.openxmlformats.org/officeDocument/2006/relationships/image" Target="../media/image5.png"/><Relationship Id="rId5" Type="http://schemas.openxmlformats.org/officeDocument/2006/relationships/slide" Target="slide10.xml"/><Relationship Id="rId6" Type="http://schemas.openxmlformats.org/officeDocument/2006/relationships/image" Target="../media/image5.png"/><Relationship Id="rId7" Type="http://schemas.openxmlformats.org/officeDocument/2006/relationships/slide" Target="slide3.xml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" Target="slide25.xml"/><Relationship Id="rId7" Type="http://schemas.openxmlformats.org/officeDocument/2006/relationships/slide" Target="slide26.xml"/><Relationship Id="rId8" Type="http://schemas.openxmlformats.org/officeDocument/2006/relationships/slide" Target="slide26.xml"/><Relationship Id="rId9" Type="http://schemas.openxmlformats.org/officeDocument/2006/relationships/slide" Target="slide26.xml"/><Relationship Id="rId10" Type="http://schemas.openxmlformats.org/officeDocument/2006/relationships/slide" Target="slide43.xml"/><Relationship Id="rId11" Type="http://schemas.openxmlformats.org/officeDocument/2006/relationships/slide" Target="slide43.xml"/><Relationship Id="rId12" Type="http://schemas.openxmlformats.org/officeDocument/2006/relationships/slide" Target="slide43.xml"/><Relationship Id="rId13" Type="http://schemas.openxmlformats.org/officeDocument/2006/relationships/image" Target="../media/image5.png"/><Relationship Id="rId14" Type="http://schemas.openxmlformats.org/officeDocument/2006/relationships/image" Target="../media/image6.gif"/><Relationship Id="rId1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2.xml"/><Relationship Id="rId10" Type="http://schemas.openxmlformats.org/officeDocument/2006/relationships/image" Target="../media/image6.gif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0" y="2565360"/>
            <a:ext cx="547380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十一节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骨质疏松的康复护理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6227640" y="5516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张红石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8183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1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．一般情况及临床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2.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骨痛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3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．放射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4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．生化指标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9" action="ppaction://hlinksldjump"/>
              </a:rPr>
              <a:t>5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0" action="ppaction://hlinksldjump"/>
              </a:rPr>
              <a:t>．骨折评定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1" action="ppaction://hlinksldjump"/>
              </a:rPr>
              <a:t>—VDS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2" action="ppaction://hlinksldjump"/>
              </a:rPr>
              <a:t>指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3" action="ppaction://hlinksldjump"/>
              </a:rPr>
              <a:t>6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4" action="ppaction://hlinksldjump"/>
              </a:rPr>
              <a:t>．腰椎活动度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5" action="ppaction://hlinksldjump"/>
              </a:rPr>
              <a:t>7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6" action="ppaction://hlinksldjump"/>
              </a:rPr>
              <a:t>．腰背肌肌力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7" action="ppaction://hlinksldjump"/>
              </a:rPr>
              <a:t>8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8" action="ppaction://hlinksldjump"/>
              </a:rPr>
              <a:t>．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9" action="ppaction://hlinksldjump"/>
              </a:rPr>
              <a:t>ADL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0" action="ppaction://hlinksldjump"/>
              </a:rPr>
              <a:t>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2" name="Group 4"/>
          <p:cNvGrpSpPr/>
          <p:nvPr/>
        </p:nvGrpSpPr>
        <p:grpSpPr>
          <a:xfrm>
            <a:off x="1143000" y="380880"/>
            <a:ext cx="6705000" cy="1371240"/>
            <a:chOff x="1143000" y="380880"/>
            <a:chExt cx="6705000" cy="1371240"/>
          </a:xfrm>
        </p:grpSpPr>
        <p:sp>
          <p:nvSpPr>
            <p:cNvPr id="173" name="AutoShape 5"/>
            <p:cNvSpPr/>
            <p:nvPr/>
          </p:nvSpPr>
          <p:spPr>
            <a:xfrm>
              <a:off x="1683360" y="618840"/>
              <a:ext cx="6164640" cy="91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ac8de"/>
                </a:gs>
                <a:gs pos="50000">
                  <a:srgbClr val="e6f3f8"/>
                </a:gs>
                <a:gs pos="100000">
                  <a:srgbClr val="8ac8d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AutoShape 6"/>
            <p:cNvSpPr/>
            <p:nvPr/>
          </p:nvSpPr>
          <p:spPr>
            <a:xfrm>
              <a:off x="1143000" y="380880"/>
              <a:ext cx="973080" cy="137124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Text Box 7"/>
            <p:cNvSpPr/>
            <p:nvPr/>
          </p:nvSpPr>
          <p:spPr>
            <a:xfrm>
              <a:off x="2012400" y="72972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、康 复 评 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Text Box 8"/>
            <p:cNvSpPr/>
            <p:nvPr/>
          </p:nvSpPr>
          <p:spPr>
            <a:xfrm>
              <a:off x="1349280" y="62532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wo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7" name="Picture 9" descr="1"/>
          <p:cNvPicPr/>
          <p:nvPr/>
        </p:nvPicPr>
        <p:blipFill>
          <a:blip r:embed="rId2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医生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5867280" y="1676520"/>
            <a:ext cx="2613240" cy="38098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一般情况及临床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603080"/>
            <a:ext cx="7620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质、营养、身体患病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方式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运动习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临床表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严重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心理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常生活活动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Picture 4" descr="文件名: j0429343.wmf&#13;关键字: 人, 体格检查, 保健 ...&#13;文件大小: 69 KB"/>
          <p:cNvPicPr/>
          <p:nvPr/>
        </p:nvPicPr>
        <p:blipFill>
          <a:blip r:embed="rId1"/>
          <a:stretch/>
        </p:blipFill>
        <p:spPr>
          <a:xfrm>
            <a:off x="5791320" y="37339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骨痛分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四级（口述分级）评分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剧痛，活动时疼痛无法忍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中度疼痛，活动时疼痛可以忍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轻度疼痛，活动时疼痛可以意识到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无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5" name="Picture 4" descr="文件名: j0429353.wmf&#13;关键字: 人, 体格检查, 保健 ...&#13;文件大小: 89 KB"/>
          <p:cNvPicPr/>
          <p:nvPr/>
        </p:nvPicPr>
        <p:blipFill>
          <a:blip r:embed="rId1"/>
          <a:stretch/>
        </p:blipFill>
        <p:spPr>
          <a:xfrm>
            <a:off x="6400800" y="41911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放射线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Oval 4"/>
          <p:cNvSpPr/>
          <p:nvPr/>
        </p:nvSpPr>
        <p:spPr>
          <a:xfrm>
            <a:off x="5943600" y="19051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5" descr="文件名: j0238409.wmf&#13;关键字: healthcare, medicine, radiography ...&#13;文件大小: 4 KB"/>
          <p:cNvPicPr/>
          <p:nvPr/>
        </p:nvPicPr>
        <p:blipFill>
          <a:blip r:embed="rId1"/>
          <a:stretch/>
        </p:blipFill>
        <p:spPr>
          <a:xfrm>
            <a:off x="6629400" y="34290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19120" y="35712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骨密度测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矿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简称骨密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单位横径的平均骨矿含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反映大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骨强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诊断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预测骨质疏松性骨折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监测自然病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评价药物干预疗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2" name="Picture 4" descr="文件名: j0425330.jpg&#13;关键字: MRI, 保健, 医学影像 ...&#13;文件大小: 357 KB"/>
          <p:cNvPicPr/>
          <p:nvPr/>
        </p:nvPicPr>
        <p:blipFill>
          <a:blip r:embed="rId1"/>
          <a:stretch/>
        </p:blipFill>
        <p:spPr>
          <a:xfrm>
            <a:off x="6313320" y="299736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放射线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6095880" y="2514600"/>
            <a:ext cx="38124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5" descr="文件名: j0433893.png&#13;关键字: PNG, 体格检查, 保健 ...&#13;文件大小: 40 KB"/>
          <p:cNvPicPr/>
          <p:nvPr/>
        </p:nvPicPr>
        <p:blipFill>
          <a:blip r:embed="rId1"/>
          <a:stretch/>
        </p:blipFill>
        <p:spPr>
          <a:xfrm>
            <a:off x="7010280" y="46483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WHO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诊断骨质疏松的标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6492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：骨密度值低于同性别、同种族健康成人骨峰值不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量低下：降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：降低程度等于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骨质疏松：骨密度降低程度符合骨质疏松  诊断标准，同时伴有一处或多处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9" name="Picture 4" descr="文件名: j0425260.jpg&#13;关键字: 保健, 照片, 科学 ...&#13;文件大小: 230 KB"/>
          <p:cNvPicPr/>
          <p:nvPr/>
        </p:nvPicPr>
        <p:blipFill>
          <a:blip r:embed="rId1"/>
          <a:stretch/>
        </p:blipFill>
        <p:spPr>
          <a:xfrm>
            <a:off x="7391520" y="50292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T-score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T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值）表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≥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1.0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量减少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2.5 &lt; 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&lt; -1.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≤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2.5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用的测量部位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SimSun-ExtB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~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SimSun-ExtB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股骨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2" name="Picture 4" descr="文件名: j0433893.png&#13;关键字: PNG, 体格检查, 保健 ...&#13;文件大小: 40 KB"/>
          <p:cNvPicPr/>
          <p:nvPr/>
        </p:nvPicPr>
        <p:blipFill>
          <a:blip r:embed="rId1"/>
          <a:stretch/>
        </p:blipFill>
        <p:spPr>
          <a:xfrm>
            <a:off x="6934320" y="45720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放射线检查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5638680" y="3124080"/>
            <a:ext cx="38124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Oval 5"/>
          <p:cNvSpPr/>
          <p:nvPr/>
        </p:nvSpPr>
        <p:spPr>
          <a:xfrm>
            <a:off x="6172200" y="37339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5791320" y="44197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8" name="Picture 7" descr="文件名: j0425340.jpg&#13;关键字: X 射线, 保健, 照片 ...&#13;文件大小: 204 KB"/>
          <p:cNvPicPr/>
          <p:nvPr/>
        </p:nvPicPr>
        <p:blipFill>
          <a:blip r:embed="rId1"/>
          <a:stretch/>
        </p:blipFill>
        <p:spPr>
          <a:xfrm>
            <a:off x="6553080" y="39625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8472600" cy="8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生化指标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607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矿代谢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钙、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形成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碱性磷酸酶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L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骨钙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G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胶原羧基末端肽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吸收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浆抗酒石酸酸性磷酸酶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RA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酸性磷酸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AP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尿羟脯氨酸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O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尿中吡啶啉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Y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脱氧吡啶啉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P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调节激素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性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甲状旁腺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降钙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Picture 4" descr="文件名: j0416442.wmf&#13;关键字: 化学, 器材, 学术 ...&#13;文件大小: 55 KB"/>
          <p:cNvPicPr/>
          <p:nvPr/>
        </p:nvPicPr>
        <p:blipFill>
          <a:blip r:embed="rId1"/>
          <a:stretch/>
        </p:blipFill>
        <p:spPr>
          <a:xfrm>
            <a:off x="7315200" y="5029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4330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92aa2"/>
                </a:solidFill>
                <a:latin typeface="宋体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1143000" y="1374840"/>
            <a:ext cx="6705000" cy="1368000"/>
            <a:chOff x="1143000" y="1374840"/>
            <a:chExt cx="6705000" cy="1368000"/>
          </a:xfrm>
        </p:grpSpPr>
        <p:sp>
          <p:nvSpPr>
            <p:cNvPr id="115" name="AutoShape 4"/>
            <p:cNvSpPr/>
            <p:nvPr/>
          </p:nvSpPr>
          <p:spPr>
            <a:xfrm>
              <a:off x="1683360" y="1612440"/>
              <a:ext cx="6164640" cy="91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9b"/>
                </a:gs>
                <a:gs pos="50000">
                  <a:srgbClr val="e9dfea"/>
                </a:gs>
                <a:gs pos="100000">
                  <a:srgbClr val="99669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5"/>
            <p:cNvSpPr/>
            <p:nvPr/>
          </p:nvSpPr>
          <p:spPr>
            <a:xfrm>
              <a:off x="1143000" y="1374840"/>
              <a:ext cx="973080" cy="136800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Text Box 6"/>
            <p:cNvSpPr/>
            <p:nvPr/>
          </p:nvSpPr>
          <p:spPr>
            <a:xfrm>
              <a:off x="2012400" y="1722960"/>
              <a:ext cx="48621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3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、概      述</a:t>
              </a:r>
              <a:endParaRPr b="0" lang="en-US" sz="3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Text Box 7"/>
            <p:cNvSpPr/>
            <p:nvPr/>
          </p:nvSpPr>
          <p:spPr>
            <a:xfrm>
              <a:off x="1314000" y="1470240"/>
              <a:ext cx="59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on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9" name="Group 8"/>
          <p:cNvGrpSpPr/>
          <p:nvPr/>
        </p:nvGrpSpPr>
        <p:grpSpPr>
          <a:xfrm>
            <a:off x="1143000" y="2286000"/>
            <a:ext cx="6705000" cy="1371240"/>
            <a:chOff x="1143000" y="2286000"/>
            <a:chExt cx="6705000" cy="1371240"/>
          </a:xfrm>
        </p:grpSpPr>
        <p:sp>
          <p:nvSpPr>
            <p:cNvPr id="120" name="AutoShape 9"/>
            <p:cNvSpPr/>
            <p:nvPr/>
          </p:nvSpPr>
          <p:spPr>
            <a:xfrm>
              <a:off x="1683360" y="2523960"/>
              <a:ext cx="6164640" cy="91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ac8de"/>
                </a:gs>
                <a:gs pos="50000">
                  <a:srgbClr val="e6f3f8"/>
                </a:gs>
                <a:gs pos="100000">
                  <a:srgbClr val="8ac8d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AutoShape 10"/>
            <p:cNvSpPr/>
            <p:nvPr/>
          </p:nvSpPr>
          <p:spPr>
            <a:xfrm>
              <a:off x="1143000" y="2286000"/>
              <a:ext cx="973080" cy="137124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Text Box 11"/>
            <p:cNvSpPr/>
            <p:nvPr/>
          </p:nvSpPr>
          <p:spPr>
            <a:xfrm>
              <a:off x="2012400" y="263484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、康  复  评  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2"/>
            <p:cNvSpPr/>
            <p:nvPr/>
          </p:nvSpPr>
          <p:spPr>
            <a:xfrm>
              <a:off x="1365480" y="253044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wo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1143000" y="3124080"/>
            <a:ext cx="6705000" cy="1523520"/>
            <a:chOff x="1143000" y="3124080"/>
            <a:chExt cx="6705000" cy="1523520"/>
          </a:xfrm>
        </p:grpSpPr>
        <p:sp>
          <p:nvSpPr>
            <p:cNvPr id="125" name="AutoShape 14"/>
            <p:cNvSpPr/>
            <p:nvPr/>
          </p:nvSpPr>
          <p:spPr>
            <a:xfrm>
              <a:off x="1683360" y="3388680"/>
              <a:ext cx="6164640" cy="101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15"/>
            <p:cNvSpPr/>
            <p:nvPr/>
          </p:nvSpPr>
          <p:spPr>
            <a:xfrm>
              <a:off x="1143000" y="3124080"/>
              <a:ext cx="973080" cy="15235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Text Box 16"/>
            <p:cNvSpPr/>
            <p:nvPr/>
          </p:nvSpPr>
          <p:spPr>
            <a:xfrm>
              <a:off x="2012400" y="351180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三、康复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Text Box 17"/>
            <p:cNvSpPr/>
            <p:nvPr/>
          </p:nvSpPr>
          <p:spPr>
            <a:xfrm>
              <a:off x="1293480" y="337824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hre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1143000" y="4114800"/>
            <a:ext cx="6705000" cy="1447200"/>
            <a:chOff x="1143000" y="4114800"/>
            <a:chExt cx="6705000" cy="1447200"/>
          </a:xfrm>
        </p:grpSpPr>
        <p:sp>
          <p:nvSpPr>
            <p:cNvPr id="130" name="AutoShape 19"/>
            <p:cNvSpPr/>
            <p:nvPr/>
          </p:nvSpPr>
          <p:spPr>
            <a:xfrm>
              <a:off x="1683360" y="4366080"/>
              <a:ext cx="6164640" cy="96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AutoShape 20"/>
            <p:cNvSpPr/>
            <p:nvPr/>
          </p:nvSpPr>
          <p:spPr>
            <a:xfrm>
              <a:off x="1143000" y="4114800"/>
              <a:ext cx="973080" cy="14472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Text Box 21"/>
            <p:cNvSpPr/>
            <p:nvPr/>
          </p:nvSpPr>
          <p:spPr>
            <a:xfrm>
              <a:off x="2012400" y="448308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Times New Roman"/>
                  <a:ea typeface="黑体"/>
                </a:rPr>
                <a:t>四、康复教育指导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Text Box 22"/>
            <p:cNvSpPr/>
            <p:nvPr/>
          </p:nvSpPr>
          <p:spPr>
            <a:xfrm>
              <a:off x="1348560" y="436320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four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4" name="Picture 23" descr="1">
            <a:hlinkClick r:id="rId1" action="ppaction://hlinksldjump"/>
          </p:cNvPr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7086600" y="365292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4" descr="1">
            <a:hlinkClick r:id="rId3" action="ppaction://hlinksldjump"/>
          </p:cNvPr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7086600" y="457200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5" descr="1">
            <a:hlinkClick r:id="rId5" action="ppaction://hlinksldjump"/>
          </p:cNvPr>
          <p:cNvPicPr/>
          <p:nvPr/>
        </p:nvPicPr>
        <p:blipFill>
          <a:blip r:embed="rId6"/>
          <a:srcRect l="42620" t="64489" r="19467" b="0"/>
          <a:stretch/>
        </p:blipFill>
        <p:spPr>
          <a:xfrm>
            <a:off x="7086600" y="273852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6" descr="1">
            <a:hlinkClick r:id="rId7" action="ppaction://hlinksldjump"/>
          </p:cNvPr>
          <p:cNvPicPr/>
          <p:nvPr/>
        </p:nvPicPr>
        <p:blipFill>
          <a:blip r:embed="rId8"/>
          <a:srcRect l="42620" t="64489" r="19467" b="0"/>
          <a:stretch/>
        </p:blipFill>
        <p:spPr>
          <a:xfrm>
            <a:off x="7086600" y="1752480"/>
            <a:ext cx="576360" cy="6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骨折评定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VDS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对每一椎体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的变形进行评估，根据变形的程度分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，即每一椎体前中后高度的改变进行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锥体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终板变形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（高度减少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下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楔形骨折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（高度减少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上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行压缩骨折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6" name="Picture 4" descr="文件名: j0198964.wmf&#13;关键字: boys, checkups, children ...&#13;文件大小: 61 KB"/>
          <p:cNvPicPr/>
          <p:nvPr/>
        </p:nvPicPr>
        <p:blipFill>
          <a:blip r:embed="rId1"/>
          <a:stretch/>
        </p:blipFill>
        <p:spPr>
          <a:xfrm>
            <a:off x="7162920" y="4724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其它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26600" y="1523520"/>
            <a:ext cx="8466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腰椎活动度评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33480" indent="-533520">
              <a:lnSpc>
                <a:spcPct val="13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坐位或站位，前驱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后伸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左、右旋转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左、右侧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腰背肌肌力的评定：主要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M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检查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功能评定：见康复评定方法，第三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常生活活动能力评定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0" name="Picture 4" descr="文件名: j0199911.wmf&#13;关键字: barbells, dumbbells, exercise equipment ...&#13;文件大小: 8 KB"/>
          <p:cNvPicPr/>
          <p:nvPr/>
        </p:nvPicPr>
        <p:blipFill>
          <a:blip r:embed="rId1"/>
          <a:stretch/>
        </p:blipFill>
        <p:spPr>
          <a:xfrm>
            <a:off x="7620120" y="52578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60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康复护理措施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（一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的康复护理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（二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的康复护理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（三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9" action="ppaction://hlinksldjump"/>
              </a:rPr>
              <a:t>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0" action="ppaction://hlinksldjump"/>
              </a:rPr>
              <a:t>（四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1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2" action="ppaction://hlinksldjump"/>
              </a:rPr>
              <a:t>继发骨折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1219320" y="380880"/>
            <a:ext cx="6704640" cy="1523520"/>
            <a:chOff x="1219320" y="380880"/>
            <a:chExt cx="6704640" cy="1523520"/>
          </a:xfrm>
        </p:grpSpPr>
        <p:sp>
          <p:nvSpPr>
            <p:cNvPr id="225" name="AutoShape 5"/>
            <p:cNvSpPr/>
            <p:nvPr/>
          </p:nvSpPr>
          <p:spPr>
            <a:xfrm>
              <a:off x="1759680" y="645480"/>
              <a:ext cx="6164280" cy="101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AutoShape 6"/>
            <p:cNvSpPr/>
            <p:nvPr/>
          </p:nvSpPr>
          <p:spPr>
            <a:xfrm>
              <a:off x="1219320" y="380880"/>
              <a:ext cx="973080" cy="15235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7"/>
            <p:cNvSpPr/>
            <p:nvPr/>
          </p:nvSpPr>
          <p:spPr>
            <a:xfrm>
              <a:off x="2088720" y="76860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三、康复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8"/>
            <p:cNvSpPr/>
            <p:nvPr/>
          </p:nvSpPr>
          <p:spPr>
            <a:xfrm>
              <a:off x="1352160" y="63504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hre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29" name="Picture 9" descr="1"/>
          <p:cNvPicPr/>
          <p:nvPr/>
        </p:nvPicPr>
        <p:blipFill>
          <a:blip r:embed="rId13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医生"/>
          <p:cNvPicPr/>
          <p:nvPr/>
        </p:nvPicPr>
        <p:blipFill>
          <a:blip r:embed="rId14"/>
          <a:stretch/>
        </p:blipFill>
        <p:spPr>
          <a:xfrm>
            <a:off x="6172200" y="2514600"/>
            <a:ext cx="26128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康复护理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9725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强调三级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一级预防：健康生活方式，未病先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二级预防：有危险因素时，预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三级预防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应防止进一步发展，如骨折、骨痛、椎体变形等。对已有骨折的患者应及时处理骨折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3" name="Picture 4" descr="文件名: j0422204.jpg&#13;关键字: 人, 保健, 医师 ...&#13;文件大小: 179 KB"/>
          <p:cNvPicPr/>
          <p:nvPr/>
        </p:nvPicPr>
        <p:blipFill>
          <a:blip r:embed="rId1"/>
          <a:stretch/>
        </p:blipFill>
        <p:spPr>
          <a:xfrm>
            <a:off x="7162920" y="472428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康复护理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对症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止痛药、物理疗法、矫形器、背带等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降低骨折发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患者接触外界作用力的可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患者在能力范围内多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已骨折的患者可采用牵引、固定、复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手术治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6" name="Picture 4" descr="文件名: j0424358.jpg&#13;关键字: 人, 夏季, 女人 ...&#13;文件大小: 219 KB"/>
          <p:cNvPicPr/>
          <p:nvPr/>
        </p:nvPicPr>
        <p:blipFill>
          <a:blip r:embed="rId1"/>
          <a:stretch/>
        </p:blipFill>
        <p:spPr>
          <a:xfrm>
            <a:off x="6705720" y="43434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康复护理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7200"/>
            <a:ext cx="822960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缓解疼痛，提高生存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控制病情发展，减少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防止废用综合征，降低病死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预测继发性骨折的发生，防止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0" name="Picture 4" descr="文件名: j0422742.jpg&#13;关键字: 人, 保健, 医生 ...&#13;文件大小: 154 KB"/>
          <p:cNvPicPr/>
          <p:nvPr/>
        </p:nvPicPr>
        <p:blipFill>
          <a:blip r:embed="rId1"/>
          <a:stretch/>
        </p:blipFill>
        <p:spPr>
          <a:xfrm>
            <a:off x="6643800" y="428616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营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饮食均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食蛋白质：每日半斤以上牛奶（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mg/d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含钙丰富的食物，蔬菜和水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充足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盐、少吃腌制食物，减少钙质流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运动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握力锻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力运动（有氧运动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外展等长收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后伸等长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躯干伸肌过伸等长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11040"/>
            <a:ext cx="81835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步行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79232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每日步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，小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万步为宜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 k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合老年骨质疏松患者，能防治下肢及脊柱的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本学者发现，每日步行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则骨量下降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万步则骨量增加不明显，而两者之间则骨量明显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8" name="Picture 4" descr="文件名: j0429499.wmf&#13;关键字: 人, 体育馆, 健康状况 ...&#13;文件大小: 61 KB"/>
          <p:cNvPicPr/>
          <p:nvPr/>
        </p:nvPicPr>
        <p:blipFill>
          <a:blip r:embed="rId1"/>
          <a:stretch/>
        </p:blipFill>
        <p:spPr>
          <a:xfrm>
            <a:off x="7162920" y="48769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1526760"/>
            <a:ext cx="81835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物理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原则：温热法疗为主，促进骨愈合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常用高频热疗，如超短波、微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疼痛明显者可用中频电疗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合并骨折急性期者应采用冷热交替的理疗方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还可采用光疗、超声疗法、离子导入疗法、磁疗法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6920" y="1549440"/>
            <a:ext cx="705492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1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2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3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病因与发病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4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主要症状与体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4" descr="医生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867280" y="1676520"/>
            <a:ext cx="2613240" cy="38098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5"/>
          <p:cNvGrpSpPr/>
          <p:nvPr/>
        </p:nvGrpSpPr>
        <p:grpSpPr>
          <a:xfrm>
            <a:off x="1143000" y="457200"/>
            <a:ext cx="6705000" cy="1368000"/>
            <a:chOff x="1143000" y="457200"/>
            <a:chExt cx="6705000" cy="1368000"/>
          </a:xfrm>
        </p:grpSpPr>
        <p:sp>
          <p:nvSpPr>
            <p:cNvPr id="142" name="AutoShape 6"/>
            <p:cNvSpPr/>
            <p:nvPr/>
          </p:nvSpPr>
          <p:spPr>
            <a:xfrm>
              <a:off x="1683360" y="694800"/>
              <a:ext cx="6164640" cy="91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9b"/>
                </a:gs>
                <a:gs pos="50000">
                  <a:srgbClr val="e9dfea"/>
                </a:gs>
                <a:gs pos="100000">
                  <a:srgbClr val="99669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7"/>
            <p:cNvSpPr/>
            <p:nvPr/>
          </p:nvSpPr>
          <p:spPr>
            <a:xfrm>
              <a:off x="1143000" y="457200"/>
              <a:ext cx="973080" cy="136800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8"/>
            <p:cNvSpPr/>
            <p:nvPr/>
          </p:nvSpPr>
          <p:spPr>
            <a:xfrm>
              <a:off x="2012400" y="80532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、概     述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9"/>
            <p:cNvSpPr/>
            <p:nvPr/>
          </p:nvSpPr>
          <p:spPr>
            <a:xfrm>
              <a:off x="1314000" y="552600"/>
              <a:ext cx="59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on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46" name="Picture 10" descr="1"/>
          <p:cNvPicPr/>
          <p:nvPr/>
        </p:nvPicPr>
        <p:blipFill>
          <a:blip r:embed="rId1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96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生活环境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安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装光线要充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地面干燥、无障碍物，地毯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穿防滑、有底纹、有弹性的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站立不稳者应配以合适的助行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3" name="Picture 4" descr="文件名: j0420812.wmf&#13;关键字: 人, 保健, 儿子 ...&#13;文件大小: 112 KB"/>
          <p:cNvPicPr/>
          <p:nvPr/>
        </p:nvPicPr>
        <p:blipFill>
          <a:blip r:embed="rId1"/>
          <a:stretch/>
        </p:blipFill>
        <p:spPr>
          <a:xfrm>
            <a:off x="6934320" y="4572000"/>
            <a:ext cx="16761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83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作业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其身体状况作出全面评定后，有目的、有针对性地从日常生活、职业劳动、认知活动中选择一些进行作业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确的姿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卧位：硬床垫、低的枕头，使背部肌肉保持挺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站立：肩膀要向后伸展，挺直腰部并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位：双足触地，挺腰收颈，椅高及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心理护理：近年来人们逐渐认识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心理状况与病情发展有着密切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胸宽广、心情愉快、性格豁达者症状较轻、疗效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之则不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药物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选用抑制骨吸收、促进骨形成两类药物，如雌激素、孕激素、骨生长因子、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前列腺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应用要求：尽早用药、长期用药、联合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0" name="Picture 4" descr="文件名: j0424682.wmf&#13;关键字: 保健, 图标, 符号 ...&#13;文件大小: 4 KB"/>
          <p:cNvPicPr/>
          <p:nvPr/>
        </p:nvPicPr>
        <p:blipFill>
          <a:blip r:embed="rId1"/>
          <a:stretch/>
        </p:blipFill>
        <p:spPr>
          <a:xfrm>
            <a:off x="7467480" y="51814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115"/>
          <p:cNvPicPr/>
          <p:nvPr/>
        </p:nvPicPr>
        <p:blipFill>
          <a:blip r:embed="rId2"/>
          <a:stretch/>
        </p:blipFill>
        <p:spPr>
          <a:xfrm>
            <a:off x="7543800" y="52578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文件名: j0286861.wmf&#13;关键字: healthcare, injections, medical equipment ...&#13;文件大小: 57 KB"/>
          <p:cNvPicPr/>
          <p:nvPr/>
        </p:nvPicPr>
        <p:blipFill>
          <a:blip r:embed="rId3"/>
          <a:stretch/>
        </p:blipFill>
        <p:spPr>
          <a:xfrm>
            <a:off x="6477120" y="5181480"/>
            <a:ext cx="914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传统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灸、推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太极拳、气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药内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熏洗、外敷塌渍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文件名: j0421562.wmf&#13;关键字: 中药, 亚洲的, 粘土坩埚 ...&#13;文件大小: 40 KB"/>
          <p:cNvPicPr/>
          <p:nvPr/>
        </p:nvPicPr>
        <p:blipFill>
          <a:blip r:embed="rId1"/>
          <a:stretch/>
        </p:blipFill>
        <p:spPr>
          <a:xfrm>
            <a:off x="6172200" y="33526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1447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和腰围佩戴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，佩戴合适的矫形器和腰围可以缓解疼痛、矫正姿势、预防骨折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矫形器的选用详见康复工程章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腰围既限制脊柱的过度屈伸，又使其能自如地侧弯及旋转，预防椎体出现压缩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文件名: j0286865.wmf&#13;关键字: crutches, healthcare, injuries ...&#13;文件大小: 66 KB"/>
          <p:cNvPicPr/>
          <p:nvPr/>
        </p:nvPicPr>
        <p:blipFill>
          <a:blip r:embed="rId1"/>
          <a:stretch/>
        </p:blipFill>
        <p:spPr>
          <a:xfrm>
            <a:off x="7391520" y="502920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80880" y="1752120"/>
            <a:ext cx="64008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选择合理健康的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教会患者如何预防骨折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积极治疗与骨质疏松有关的疾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71" name="Group 4"/>
          <p:cNvGrpSpPr/>
          <p:nvPr/>
        </p:nvGrpSpPr>
        <p:grpSpPr>
          <a:xfrm>
            <a:off x="990720" y="380880"/>
            <a:ext cx="6933240" cy="1447200"/>
            <a:chOff x="990720" y="380880"/>
            <a:chExt cx="6933240" cy="1447200"/>
          </a:xfrm>
        </p:grpSpPr>
        <p:sp>
          <p:nvSpPr>
            <p:cNvPr id="272" name="AutoShape 5"/>
            <p:cNvSpPr/>
            <p:nvPr/>
          </p:nvSpPr>
          <p:spPr>
            <a:xfrm>
              <a:off x="1549440" y="632160"/>
              <a:ext cx="6374520" cy="96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AutoShape 6"/>
            <p:cNvSpPr/>
            <p:nvPr/>
          </p:nvSpPr>
          <p:spPr>
            <a:xfrm>
              <a:off x="990720" y="380880"/>
              <a:ext cx="1006200" cy="14472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7"/>
            <p:cNvSpPr/>
            <p:nvPr/>
          </p:nvSpPr>
          <p:spPr>
            <a:xfrm>
              <a:off x="1890000" y="749160"/>
              <a:ext cx="502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Times New Roman"/>
                  <a:ea typeface="黑体"/>
                </a:rPr>
                <a:t>四、康复教育指导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8"/>
            <p:cNvSpPr/>
            <p:nvPr/>
          </p:nvSpPr>
          <p:spPr>
            <a:xfrm>
              <a:off x="1193760" y="629280"/>
              <a:ext cx="57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four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76" name="Picture 9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医生"/>
          <p:cNvPicPr/>
          <p:nvPr/>
        </p:nvPicPr>
        <p:blipFill>
          <a:blip r:embed="rId2"/>
          <a:stretch/>
        </p:blipFill>
        <p:spPr>
          <a:xfrm>
            <a:off x="6248520" y="1676520"/>
            <a:ext cx="2350800" cy="3429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-1004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选择合理健康的生活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83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尽早采用适当的康复运动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饮食搭配要合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避免不良嗜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保证充足睡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学习预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相关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保持健康乐观的生活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1" name="Picture 4" descr="文件名: j0433795.png&#13;关键字: PNG, 不, 不允许的 ...&#13;文件大小: 40 KB"/>
          <p:cNvPicPr/>
          <p:nvPr/>
        </p:nvPicPr>
        <p:blipFill>
          <a:blip r:embed="rId1"/>
          <a:stretch/>
        </p:blipFill>
        <p:spPr>
          <a:xfrm>
            <a:off x="6781680" y="4495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logo"/>
          <p:cNvPicPr/>
          <p:nvPr/>
        </p:nvPicPr>
        <p:blipFill>
          <a:blip r:embed="rId2"/>
          <a:stretch/>
        </p:blipFill>
        <p:spPr>
          <a:xfrm>
            <a:off x="533520" y="533412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-1717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教会患者如何预防骨折发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药物预防：雌激素等。不可滥用药物，尤其是利尿药、四环素、抗癌药等，可影响骨代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环境预防：减少引起骨折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运动预防：尽量避免卧床，多活动，及时给予被动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康复工程预防：佩戴矫形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Picture 4" descr="文件名: j0281280.wmf&#13;关键字: healthcare, medical equipment, medicines ...&#13;文件大小: 37 KB"/>
          <p:cNvPicPr/>
          <p:nvPr/>
        </p:nvPicPr>
        <p:blipFill>
          <a:blip r:embed="rId1"/>
          <a:stretch/>
        </p:blipFill>
        <p:spPr>
          <a:xfrm>
            <a:off x="7227720" y="478944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积极治疗与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OP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有关的疾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治疗可引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相关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糖尿病、类风湿关节炎、慢性肾炎、甲状腺功能亢进、骨转移瘤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治疗由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起的相关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骨折、脊柱变形、疼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8" name="Picture 4" descr="文件名: j0280302.wmf&#13;关键字: joggers, leisure, males ...&#13;文件大小: 23 KB"/>
          <p:cNvPicPr/>
          <p:nvPr/>
        </p:nvPicPr>
        <p:blipFill>
          <a:blip r:embed="rId1"/>
          <a:stretch/>
        </p:blipFill>
        <p:spPr>
          <a:xfrm>
            <a:off x="7010280" y="464832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logo"/>
          <p:cNvPicPr/>
          <p:nvPr/>
        </p:nvPicPr>
        <p:blipFill>
          <a:blip r:embed="rId2"/>
          <a:stretch/>
        </p:blipFill>
        <p:spPr>
          <a:xfrm>
            <a:off x="457200" y="5486400"/>
            <a:ext cx="63828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18352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6794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steoporosis, 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以骨组织显微结构受损，骨矿成分和骨基质等比例减少，骨质变薄，骨小梁数量减少，骨脆性增加和骨折危险度升高为特征的一种全身骨代谢障碍性疾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Picture 4" descr="lo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文件名: j0434880.png&#13;关键字: PNG, 人, 保健 ...&#13;文件大小: 38 KB"/>
          <p:cNvPicPr/>
          <p:nvPr/>
        </p:nvPicPr>
        <p:blipFill>
          <a:blip r:embed="rId3"/>
          <a:stretch/>
        </p:blipFill>
        <p:spPr>
          <a:xfrm>
            <a:off x="6781680" y="45720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85880" y="285840"/>
            <a:ext cx="82296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170640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原发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5%</a:t>
            </a:r>
            <a:r>
              <a:rPr b="1" lang="en-US" sz="2800" spc="-1" strike="noStrike">
                <a:solidFill>
                  <a:srgbClr val="000000"/>
                </a:solidFill>
                <a:latin typeface="Traditional Arabic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%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绝经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老年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继发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%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发性骨质疏松症：多见于儿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Picture 4" descr="文件名: j0436323.png&#13;关键字: PNG, 万圣节, 保健 ...&#13;文件大小: 20 KB"/>
          <p:cNvPicPr/>
          <p:nvPr/>
        </p:nvPicPr>
        <p:blipFill>
          <a:blip r:embed="rId1"/>
          <a:stretch/>
        </p:blipFill>
        <p:spPr>
          <a:xfrm>
            <a:off x="6153120" y="15541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与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3476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激素分泌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要原因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调节激素的分泌失调：降钙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、甲状旁腺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、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营养物质吸收、摄入不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的基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7" name="Picture 4" descr="lo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文件名: j0199103.wmf&#13;关键字: healthcare, medications, medicine ...&#13;文件大小: 16 KB"/>
          <p:cNvPicPr/>
          <p:nvPr/>
        </p:nvPicPr>
        <p:blipFill>
          <a:blip r:embed="rId3"/>
          <a:stretch/>
        </p:blipFill>
        <p:spPr>
          <a:xfrm>
            <a:off x="6400800" y="38862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3733920" y="1905120"/>
            <a:ext cx="4876560" cy="3809880"/>
          </a:xfrm>
          <a:prstGeom prst="borderCallout1">
            <a:avLst>
              <a:gd name="adj1" fmla="val 18750"/>
              <a:gd name="adj2" fmla="val -8333"/>
              <a:gd name="adj3" fmla="val -2000"/>
              <a:gd name="adj4" fmla="val -21810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疼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最常见的症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腰背酸痛或周身疼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负荷增加时疼痛加重或活动受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严重时翻身、起坐及行走有困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5" descr="文件名: j0438751.jpg&#13;关键字: Fotolia, X 光线照相术, 人类 ...&#13;文件大小: 462 KB&#13;提供商: Fotolia.com"/>
          <p:cNvPicPr/>
          <p:nvPr/>
        </p:nvPicPr>
        <p:blipFill>
          <a:blip r:embed="rId1"/>
          <a:stretch/>
        </p:blipFill>
        <p:spPr>
          <a:xfrm>
            <a:off x="533520" y="457200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3657600" y="2666880"/>
            <a:ext cx="4648320" cy="3276720"/>
          </a:xfrm>
          <a:prstGeom prst="borderCallout1">
            <a:avLst>
              <a:gd name="adj1" fmla="val 18750"/>
              <a:gd name="adj2" fmla="val -8333"/>
              <a:gd name="adj3" fmla="val -2324"/>
              <a:gd name="adj4" fmla="val -8472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身高缩短和驼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椎体压缩性骨折会导致胸廓畸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腹部受压，影响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心肺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5" descr="文件名: j0438791.jpg&#13;关键字: Fotolia, X 光线照相术, 人类 ...&#13;文件大小: 769 KB&#13;提供商: Fotolia.com"/>
          <p:cNvPicPr/>
          <p:nvPr/>
        </p:nvPicPr>
        <p:blipFill>
          <a:blip r:embed="rId1"/>
          <a:stretch/>
        </p:blipFill>
        <p:spPr>
          <a:xfrm>
            <a:off x="609480" y="40384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3124080" y="3200400"/>
            <a:ext cx="5410440" cy="3124080"/>
          </a:xfrm>
          <a:prstGeom prst="borderCallout1">
            <a:avLst>
              <a:gd name="adj1" fmla="val 18750"/>
              <a:gd name="adj2" fmla="val -8333"/>
              <a:gd name="adj3" fmla="val -2439"/>
              <a:gd name="adj4" fmla="val -12351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脆性骨折：指轻度外伤或日常活  动后发生的骨折，常见部位为肋骨、腰椎、髋部以及桡、尺骨远端和肱骨的近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脊柱压缩性骨折：多见于绝经后骨质疏松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髋部骨折：以老年性骨质疏松患者多见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0" name="Picture 5" descr="文件名: j0422272.jpg&#13;关键字: 人, 保健, 医师 ...&#13;文件大小: 250 KB"/>
          <p:cNvPicPr/>
          <p:nvPr/>
        </p:nvPicPr>
        <p:blipFill>
          <a:blip r:embed="rId1"/>
          <a:stretch/>
        </p:blipFill>
        <p:spPr>
          <a:xfrm>
            <a:off x="838080" y="43434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2:03:40Z</dcterms:modified>
  <cp:revision>1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